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CB6-3FD0-4580-9395-B326D142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6C9-B9F8-436E-8649-08992E81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0DB-5E43-407B-82FF-650BD0BA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B0F-39FE-4AEA-83F0-4F0F6433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947-DEDD-41E2-BDC4-B769224A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346-7EF7-4D63-8EBB-DF8C3392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24B-00C5-46A5-8F25-97A9A535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C68-F437-4F96-8831-2E0A6FE1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78D-9E63-42FB-B454-15944255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375-C344-4505-A375-9B3D8716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6CA-4E1A-457D-99BE-2FD01AC1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32D-FC47-4B0D-81C6-B897F914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4B83-7663-4C9A-923C-CE7A0264C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360" y="1052280"/>
            <a:ext cx="439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พื้นที่ผิวและปริมาตรทรงกล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14172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รูผู้สอน ส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ไพบูลย์ ศรีบุญม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ลุ่มสาระการเรียนรู้คณิตศาสตร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รื่อง พื้นที่ผิวและปริมาตรรูปทรงเรขาคณิ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ชั้นมัธยมศึกษาปีที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โรงเรียนบ้านดอนขี้เหล็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ำนักงานเขตพื้นที่การศึกษาอุดรธานี เขต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62064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รูปเรขาคณิตสามมิติที่มีผิวโค้งเรียบ  และจุดทุกจุดบนผิวโค้งอยู่ห่างจากจุดคงที่จุดหนึ่งเป็นระยะเท่ากัน เรียกว่า ทร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916280"/>
            <a:ext cx="597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จุดคงที่นั้นเรียกว่า จุดศูนย์กลางของทร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ระยะที่เท่ากันนั้นเรียกว่า รัศมีของทร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6602400">
            <a:off x="2707200" y="4096440"/>
            <a:ext cx="1963800" cy="198432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20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6720" y="2349360"/>
            <a:ext cx="1511280" cy="15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852640"/>
            <a:ext cx="151128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4815600">
            <a:off x="3312720" y="2889000"/>
            <a:ext cx="151128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068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349360"/>
            <a:ext cx="28728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83664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เส้นผ่านศูนย์กลางของวงกลมใหญ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6160" y="242100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งกลมใหญ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364500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จุดศูนย์กล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068720" y="3068280"/>
            <a:ext cx="18734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573440" y="2709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573440" y="256500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212720" y="2637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1268280"/>
            <a:ext cx="136836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1268280"/>
            <a:ext cx="100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443700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ัศมีทรงกลมยา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33336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ผิวทร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1341360"/>
            <a:ext cx="41767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 พื้นที่ผิวทรงกล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6602400">
            <a:off x="1016280" y="4088160"/>
            <a:ext cx="863640" cy="83340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20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6602400">
            <a:off x="3332520" y="4307400"/>
            <a:ext cx="863640" cy="83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6602400">
            <a:off x="4556520" y="4378680"/>
            <a:ext cx="863640" cy="83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6602400">
            <a:off x="5637600" y="4378680"/>
            <a:ext cx="863640" cy="83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6602400">
            <a:off x="6932880" y="4378680"/>
            <a:ext cx="863640" cy="83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4292640"/>
            <a:ext cx="4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508464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ร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372280"/>
            <a:ext cx="9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วงกล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5372280"/>
            <a:ext cx="9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วงกล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9080" y="5300640"/>
            <a:ext cx="9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วงกล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5300640"/>
            <a:ext cx="9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วงกล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234936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มื่อ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ทนความยาวรัศมีทร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26028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ตัวอย่าง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โคมไฟฟ้ามีลักษณะเป็นครึ่งทรงกลมที่มีรัศมีภายนอกยา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ซนติเมตร จะมีพื้นผิวภายนอกเท่าไ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134136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ทนรัศมี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34136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684360" y="2060640"/>
            <a:ext cx="1079280" cy="1008000"/>
          </a:xfrm>
          <a:prstGeom prst="blockArc">
            <a:avLst>
              <a:gd name="adj1" fmla="val 41801"/>
              <a:gd name="adj2" fmla="val 10758199"/>
              <a:gd name="adj3" fmla="val 43528"/>
            </a:avLst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635000">
            <a:off x="1186560" y="2491560"/>
            <a:ext cx="71640" cy="57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924280"/>
            <a:ext cx="360360" cy="21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198900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พื้นที่ผิว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ทรงกลม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270828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ต่โคมไฟฟ้ามี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ครึ่งทรงกล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26370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292428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2708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35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3500280"/>
            <a:ext cx="57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500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3500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342900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716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429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422100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50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429264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7080" y="4292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43640" y="422100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422100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522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515772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20000" y="515772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27640" y="515772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580536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2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1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80360" y="515772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580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573408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ตาราง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580536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โคมไฟฟ้ามี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ครึ่งทร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3141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27640" y="2852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000" y="472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65300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4292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189000"/>
            <a:ext cx="73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ทรงกลมซึ่งมีรัศมียาว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.5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จงหาพื้นที่ผิว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ำหนด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3.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26828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126828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ทนรัศมี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3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1989000"/>
            <a:ext cx="27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สูตร พื้นที่ผิวทร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2637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284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076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4149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ngsana New"/>
              </a:rPr>
              <a:t>ตาราง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328464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263700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3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26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2637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263700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2637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9640" y="2060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20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28464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2.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3284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2764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328464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414972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53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6000" y="206064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404640"/>
            <a:ext cx="20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ปริมาตรทร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1341360"/>
            <a:ext cx="4174920" cy="18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ูตร  ปริมาตรทรงกล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1341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162864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314172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มื่อ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ทน ความยาวรัศมีทรงกล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40464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อย่างที่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ลูกเหล็กทรงกลมตัน เมื่อวัดเส้นรอบวงกลมใหญ่ได้ยาว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6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เซนติเมตร            จงหาปริมา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170028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ห้รัศมียาว  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หน่ว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628640"/>
            <a:ext cx="7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ิธี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276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หารัศมีทรงกลม จา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ามยาวเส้นรอบวงกลมใหญ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285264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 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350028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4360" y="35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3716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342900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7640" y="342900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35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35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4005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429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400536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92720" y="4292640"/>
            <a:ext cx="5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400536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07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07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494172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4869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4941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4941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486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45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44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4076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00720" y="51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35280" y="5661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566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5589720"/>
            <a:ext cx="50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87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19280" y="765000"/>
            <a:ext cx="46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สูตร ปริมาตรทรงกลม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6192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907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162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148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17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11640" y="364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256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96360" y="2492280"/>
            <a:ext cx="50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256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17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40720" y="278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6720" y="162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27640" y="1484280"/>
            <a:ext cx="5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17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48360" y="2492280"/>
            <a:ext cx="5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1484280"/>
            <a:ext cx="5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35640" y="17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256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7640" y="2492280"/>
            <a:ext cx="5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9928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84720" y="1628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24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9800" y="25639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35640" y="249228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ngsana New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256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364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364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29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21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20000" y="21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00720" y="306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35640" y="306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220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306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59280" y="29973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2492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4836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00720" y="292428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2565360"/>
            <a:ext cx="288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2924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88000" y="19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2133720"/>
            <a:ext cx="5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740720" y="306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ngsana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59280" y="2421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292428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2565360"/>
            <a:ext cx="360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00720" y="364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24360" y="364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64000" y="364500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3280" y="364500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88000" y="364500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16360" y="4292640"/>
            <a:ext cx="7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48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11640" y="429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24360" y="4292640"/>
            <a:ext cx="25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ลูกบาศก์เซนติเมต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8:44:19Z</dcterms:created>
  <dc:creator>boy</dc:creator>
  <dc:description/>
  <dc:language>en-US</dc:language>
  <cp:lastModifiedBy>IT_N</cp:lastModifiedBy>
  <dcterms:modified xsi:type="dcterms:W3CDTF">2009-03-15T01:20:51Z</dcterms:modified>
  <cp:revision>18</cp:revision>
  <dc:subject/>
  <dc:title>ทรงกลม</dc:title>
</cp:coreProperties>
</file>